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media/image12.gif" ContentType="image/gi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493-D13C-4330-B51C-46EBF02F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8F3-2EC9-462A-8EDD-555605DE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3E4-6575-4B48-9757-89349FD8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455-67C0-4D89-9946-ECC1843E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685-CF0A-46EA-BFEC-F00B997C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0F9-2698-41B5-86AC-83FC927A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10C-EABA-4F79-A68E-A52598E7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CAE-8249-43B3-A7D6-9F82E68A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E5A-2A14-4B08-AEC3-6D45EF62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F2D-2437-4423-AC79-F97AC9D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690-8CDC-47F6-A442-AFB59BE4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4FC-D4D6-471C-AB45-23D467D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6D77-7ADA-4AC7-9402-B8E9FC9C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alexperm@yandex.r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konstruktoruroka/home" TargetMode="External"/><Relationship Id="rId2" Type="http://schemas.openxmlformats.org/officeDocument/2006/relationships/hyperlink" Target="https://sites.google.com/site/konstruktoruroka/home" TargetMode="External"/><Relationship Id="rId3" Type="http://schemas.openxmlformats.org/officeDocument/2006/relationships/hyperlink" Target="https://sites.google.com/site/konstruktoruroka/home" TargetMode="External"/><Relationship Id="rId4" Type="http://schemas.openxmlformats.org/officeDocument/2006/relationships/hyperlink" Target="https://sites.google.com/site/konstruktoruroka/home" TargetMode="External"/><Relationship Id="rId5" Type="http://schemas.openxmlformats.org/officeDocument/2006/relationships/hyperlink" Target="https://sites.google.com/site/konstruktoruroka/home" TargetMode="External"/><Relationship Id="rId6" Type="http://schemas.openxmlformats.org/officeDocument/2006/relationships/hyperlink" Target="https://sites.google.com/site/konstruktoruroka/home" TargetMode="External"/><Relationship Id="rId7" Type="http://schemas.openxmlformats.org/officeDocument/2006/relationships/hyperlink" Target="https://sites.google.com/site/konstruktoruroka/home" TargetMode="External"/><Relationship Id="rId8" Type="http://schemas.openxmlformats.org/officeDocument/2006/relationships/hyperlink" Target="https://sites.google.com/site/konstruktoruroka/home" TargetMode="External"/><Relationship Id="rId9" Type="http://schemas.openxmlformats.org/officeDocument/2006/relationships/hyperlink" Target="https://sites.google.com/site/konstruktoruroka/home" TargetMode="External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уссионная площа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аправлению научно-методического сопровождения работы апробационных площадок Пермского края «Формирование и развитие познавательных универсальных учебных действий (УУД), их текущей оценки на уроках основной ступени общего образо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й семинар - дискуссия  для представителей апробационных площадок, учителей Пермского края по плану августовских мероприятий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азвитие технологической компетентности работников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ского края: предъявление опыта и результат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.08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улов А.А., начальник отдела сопровождения ФГОС, доцент, канд. биол. на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итут развития образования Пермского к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л.Екатерининская, 210)</a:t>
            </a:r>
            <a:br>
              <a:rPr sz="1800"/>
            </a:b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alexperm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о-методического сопровождения работы апробационных площадок Пермского края по направлени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Особенности преподавания учебных предметов и оценивания образовательных результатов в контексте требований ФГОС ООО» в 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работка и апробац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дактических материалов  для достижения и оценки метапредметных результатов в учебном проце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астники:8 сотрудников отдела сопровождения ФГОС ИРО П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учебные предметы: математика, биология, химия, география, история и обществознание, русский язык и литература, технология и обслуживающий труд);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 апробационных площадок Пермского края (г.г.Кунгур, Горнозаводск, Пермь, Соликамск, Верещагино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ные семинары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0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дактические материалы  для достижения и оценки метапредметных результатов предметного обучения в сфере практического освоения методов позна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.0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авнение, сериация и классификация как базовые приемы позна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.0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нение знаково-символических средств (моделей, схем) для решения учебно-познавательных зада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9.08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стижение и оценка метапредметных результатов предметного обучения на основе знаково-символических моделей и сх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налитическ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.0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емы и формы установления причинно-следственных связей учебных понятий, аргументации вывод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7.1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овый анализ комплектов дидактических материалы  для достижения и оценки метапредметных результа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метного обучения в сфере практического освоения методов познавательной деятельности (аналитически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ультации; Редактирование методических разработок, дидактических материалов участников апроб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228240"/>
            <a:ext cx="9144000" cy="62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вызывают затруднения задания КИМ итоговой государственной аттестации на соотнесение (сравнение) объектов (или процессов) и их 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авнивать объекты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т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призна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которым они будут сравни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т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ти черт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ь причин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о и другого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заданий (индивидуальная и коллективная формы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йди «лишнее»  (объект, процесс, формулировку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м похожи (различаются) примеры …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бери и запиши два (три) верных ответа из четырех (ше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станови соответствие элементов двух информационных 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Соотнеси признаки объекта (процесса) с предложенными моделями, рисунками, схе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ния на с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ие величины соответствуют приведённым единицам измерени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дус Цельсия (°С) ; метр в секунду (м/с);  секунда (с) ; килограмм (кг);   метр (м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ина                Масса           Температура          Время           Скор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смотрите на рисунке клетки разных частей растения и тела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вы думаете, почему в одном организме так много разновидностей клеток? Попробуйте по их виду сказать о том, какую работу они выполн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учно-методического сопровождения работы апробационных площадок Пермского края по направлени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Формирование и развитие познавательных универсальных учебных действий (УУД), их текущей оценки на уроках основной ступени общего образова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целевой программе «Организационное, информационное, методическое сопровождение деятельности апробационных площадок ФГОС ООО»,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ые сотрудники отдела сопровождения ФГОС ИРО ПК (8 челов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чебные предметы: математика, биология, химия, география, история и обществознание, русский язык и литература, технология и обслуживающий труд; охрана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 образовательных организаций (представители апробационных площадок Пермского края по переходу на ФГОС ОО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ысе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ть и апробировать средства формирования и развития познавательных УУД, их текущей оценки на уроках системно-деятельностной направ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тематика, биология, химия, география, история и обществознание, русский язык и литература, технология и обслуживающий труд) для последующей трансляции полученного опыта образовательным организациям Пермского края с целью их подготовки к переходу на ФГОС ООО (предъявление и обсуждение методических, дидактических, нормативных материалов апробационных площадок на региональных семинарах и конференциях, размещение их электронных версий на федеральном портале ФГОС, публикация в открытой печа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ые семинары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мая 2014 г. «Алгоритм проектирования урока системно-деятельностной направленности для формирования и развития познавательных УУД, их текущей оценки  в соответствии с требованиям ФГОС ООО к метапредметным результатам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июня 2014 г. «Формирование и развитие познавательных УУД на основе приемов и форм мотивации и актуализации знаний, проблемной постановки целей и задач урока системно-деятельностной направлен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августа 2014г. «Формирование и развитие познавательных УУД на проблемно-мотивационном этапе урока. Приемы проблемной постановки целей и задач урока системно-деятельностной направленности» (в рамках программы августовских педчт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2 октября 2014 г. «Приемы и формы фиксации, оформления и предъявления результатов решения учебной проблемы на уроках системно-деятельностной направленности для формирования и развития познавательных УУД. Самоанализ успешности учебной деятельности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 ноября 2014 г. «Анализ комплектов дидактических материалов для формирования и развития познавательных УУД на уроках системно-деятельностной направленности (основная ступень общего образования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ный подход в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Б. Эльконин : идея учебной деятельности -  универсальные учебные действия (способы действий учащегося, обеспечивающие самостоятельное усвоение им новых зна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В. Давыд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дея обучения понятиям (ЗУНы – способы деятельности – понятия – действия на их основе – новые навы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я формирования способностей мышления (регулировать и контролировать свои действия, оценивать их, вносить корректив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поставить вопросы и отвечать на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 буду делать? Зачем я это делаю? Что я знаю, чтобы это сделать? Что не знаю? Как я оцениваю то, как я это сдел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 узнал нового? Как исправить, если ошиб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П. Щедровицкий: идея задачной формы организац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еловек начинает мыслить, когда невозможно действовать по стереоти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вательные УУД: использование для обучения знаково-символических средств, овладение школьниками действием моделир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им спектром логических действий и опе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бные моти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интерес, мотивы к обучению, познанию и творчеству в течение всей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бные це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пособность приобретать новые компетенции, умения, способности – способность меня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бные задач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нахождение способов решения проб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бные действия и опер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операционные умения, знания, навы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85800" y="1828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868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Компоненты учебной дея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304920" y="5486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чебной деятельности объединяются деятель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еятель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учения), причё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 компон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рисвоение знаний, умений, навыков, формирование и развитие компетентнос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формирования умственных действий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.Я. Гальперин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143000"/>
            <a:ext cx="8429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Arial"/>
              </a:rPr>
              <a:t>Освоение деятельности и усвоение обеспечивающих ее знаний будет успешным, если обучаемый последовательно пройдет 5 этап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Физика 1\Материал к лекции\Деят подход\Беспалько\Этапы формирования умственных действий по Гальперину.files\R222.gif"/>
          <p:cNvPicPr/>
          <p:nvPr/>
        </p:nvPicPr>
        <p:blipFill>
          <a:blip r:embed="rId1"/>
          <a:stretch/>
        </p:blipFill>
        <p:spPr>
          <a:xfrm>
            <a:off x="1785960" y="2655720"/>
            <a:ext cx="58579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28600" y="0"/>
            <a:ext cx="9075600" cy="6861240"/>
            <a:chOff x="228600" y="0"/>
            <a:chExt cx="9075600" cy="6861240"/>
          </a:xfrm>
        </p:grpSpPr>
        <p:sp>
          <p:nvSpPr>
            <p:cNvPr id="79" name="Rectangle 3"/>
            <p:cNvSpPr/>
            <p:nvPr/>
          </p:nvSpPr>
          <p:spPr>
            <a:xfrm>
              <a:off x="22860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5000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6"/>
          <p:cNvSpPr/>
          <p:nvPr/>
        </p:nvSpPr>
        <p:spPr>
          <a:xfrm>
            <a:off x="4572000" y="28954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788080" y="3657600"/>
            <a:ext cx="79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7620120" y="2209680"/>
            <a:ext cx="12952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амо-оц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1"/>
          <p:cNvGrpSpPr/>
          <p:nvPr/>
        </p:nvGrpSpPr>
        <p:grpSpPr>
          <a:xfrm>
            <a:off x="4876920" y="1447920"/>
            <a:ext cx="1364760" cy="3198960"/>
            <a:chOff x="4876920" y="1447920"/>
            <a:chExt cx="1364760" cy="3198960"/>
          </a:xfrm>
        </p:grpSpPr>
        <p:sp>
          <p:nvSpPr>
            <p:cNvPr id="85" name="Line 22"/>
            <p:cNvSpPr/>
            <p:nvPr/>
          </p:nvSpPr>
          <p:spPr>
            <a:xfrm>
              <a:off x="5972040" y="304740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3"/>
            <p:cNvSpPr/>
            <p:nvPr/>
          </p:nvSpPr>
          <p:spPr>
            <a:xfrm>
              <a:off x="4876920" y="1447920"/>
              <a:ext cx="1127160" cy="319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Прое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вых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из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затруднения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его реали-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4"/>
          <p:cNvGrpSpPr/>
          <p:nvPr/>
        </p:nvGrpSpPr>
        <p:grpSpPr>
          <a:xfrm>
            <a:off x="6248520" y="2133720"/>
            <a:ext cx="1304280" cy="1675440"/>
            <a:chOff x="6248520" y="2133720"/>
            <a:chExt cx="1304280" cy="1675440"/>
          </a:xfrm>
        </p:grpSpPr>
        <p:sp>
          <p:nvSpPr>
            <p:cNvPr id="88" name="Line 25"/>
            <p:cNvSpPr/>
            <p:nvPr/>
          </p:nvSpPr>
          <p:spPr>
            <a:xfrm>
              <a:off x="7313400" y="2971440"/>
              <a:ext cx="23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6"/>
            <p:cNvSpPr/>
            <p:nvPr/>
          </p:nvSpPr>
          <p:spPr>
            <a:xfrm>
              <a:off x="6248520" y="2133720"/>
              <a:ext cx="1093680" cy="1675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амо-к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57200" y="1752480"/>
            <a:ext cx="3123720" cy="2361240"/>
            <a:chOff x="457200" y="1752480"/>
            <a:chExt cx="3123720" cy="2361240"/>
          </a:xfrm>
        </p:grpSpPr>
        <p:sp>
          <p:nvSpPr>
            <p:cNvPr id="91" name="Line 28"/>
            <p:cNvSpPr/>
            <p:nvPr/>
          </p:nvSpPr>
          <p:spPr>
            <a:xfrm>
              <a:off x="1864440" y="293292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9"/>
            <p:cNvSpPr/>
            <p:nvPr/>
          </p:nvSpPr>
          <p:spPr>
            <a:xfrm>
              <a:off x="3309840" y="293292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0"/>
            <p:cNvSpPr/>
            <p:nvPr/>
          </p:nvSpPr>
          <p:spPr>
            <a:xfrm>
              <a:off x="2103480" y="1752480"/>
              <a:ext cx="1238400" cy="236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дей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в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(акту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ли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99"/>
                  </a:solidFill>
                  <a:latin typeface="Arial"/>
                </a:rPr>
                <a:t>ция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1"/>
            <p:cNvSpPr/>
            <p:nvPr/>
          </p:nvSpPr>
          <p:spPr>
            <a:xfrm>
              <a:off x="457200" y="1752480"/>
              <a:ext cx="1440000" cy="236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Мо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(т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Arial"/>
                </a:rPr>
                <a:t>урок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5"/>
          <p:cNvSpPr/>
          <p:nvPr/>
        </p:nvSpPr>
        <p:spPr>
          <a:xfrm>
            <a:off x="533520" y="380880"/>
            <a:ext cx="8076960" cy="79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000"/>
                </a:solidFill>
                <a:latin typeface="Arial"/>
              </a:rPr>
              <a:t>Структура учебн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0000"/>
                </a:solidFill>
                <a:latin typeface="Arial"/>
              </a:rPr>
              <a:t>(этапы урока открытия новых знаний по Петерсон Л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752480"/>
            <a:ext cx="1600200" cy="20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a0000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a0000"/>
                </a:solidFill>
                <a:latin typeface="Arial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a0000"/>
                </a:solidFill>
                <a:latin typeface="Arial"/>
              </a:rPr>
              <a:t>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a0000"/>
                </a:solidFill>
                <a:latin typeface="Arial"/>
              </a:rPr>
              <a:t>(пробл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a0000"/>
                </a:solidFill>
                <a:latin typeface="Arial"/>
              </a:rPr>
              <a:t>цель у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деятельностной направленности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Петерсон Л.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к открытия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ование у учащихся способностей 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му построению новых способов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снове метода рефлексивной само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ие понятийной базы по учебному предмету за счет включения в нее нов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к рефлек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ование у учащихся способностей к самостоятельному выявлению и исправлению своих ошибок на основе рефлексии коррекционно-контрольного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ррекция и тренинг изученных способов действий – понятий, алгоритм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Урок обобщения и систематизации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ование у учащихся способностей к обобщению, структурированию и систематизации изучаемого предметного содерж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тизация учебного материала и выявление логики развития содержательно-методических линий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Урок развивающего контр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ование у учащихся способностей к осуществлению контрольн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 цел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троль и самоконтроль изученных понятий 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и методических разработок и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Аксентьева Светлана Юрьевна, учитель биологии и химии МАОУ «СОШ №12» г. Берез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и и процедуры оценивания познавательных УУД по осознанному выбору эффективных способов решения учебных задач на уроках хи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Крылова Наталья Васильевна, учитель русского языка и литературы МАОУ СОШ №1 г. Кунг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дактические материалы для развития УУД на уроках русского языка и литературы (этапы мотивации к учебной деятельности и целеполага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Волкова Марина Александровна, учитель географии МАОУ «СОШ№ 1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Горнозавод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УУД обучающихся на примере урока открытия новых знаний по геогра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Турова Галина Васильевна, учитель биологии МБОУ «Дмитриевская СОШ»Ильинского р-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мы развития УУД на этапах мотивации, актуализации и проблематизации при обучении био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Валишевская Алина Валерьевна, учитель географии МАОУ «Гимназия №16» г. Кунгу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я для оценивания универсальных учебных действий по осознанному выбору эффективных способов решения учебных задач на уроках геогра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Красных Ольга Аркадьевна, учитель биологии СОШ №132 г.Пер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ирование на уроках биологии как средство развития познавательных УУД обучающих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89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ая модель системно-деятельностного уро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я нового зн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сознанное вхождение учащегося в деятельность  по «открытию» нового универсального знания:«надо»;«хочу»; «могу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уализация и целеполаг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NewRomanPSMT"/>
              </a:rPr>
              <a:t>проб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NewRomanPSMT"/>
              </a:rPr>
              <a:t> учеб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NewRomanPSMT"/>
              </a:rPr>
              <a:t> дейст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– фиксация затруднения – причина затруднения , проблема – цель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ание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решению проблемы (фиксация нового знания: описание, таблица, схема; реализация пла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ое закреп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амостоятельная работа, включение в систему знаний; установление причинно-следственных связей; формулирование и аргументация своего мнения в коммуник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флексия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амооценка на основе критерия успеш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нтроль и оценка процесса и результатов дея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́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лат. movere) — побуждение к действию; способность человека деятельно удовлетворять свои потребности (А. Шопенгауэ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 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его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озна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ность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ю мотив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временн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усло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разверты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щихся на основе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ого опы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ндивидуальности, внутренних устрем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й мотив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оспроизводятся предыдущие достижения, выявляется неудовлетворенность ими, усиливается ориентация на предстоящую работу (мотивы удивления, любознатель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го материала (например, интеграция  географии с математикой для расчетов расстояний при изучении темы «План местности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й деятельности (апелляция к жизненному опыту детей, ролевой подход и  обучающие игры (кроссворды, сканворды, ребусы, творческие сочинения), решение нестандартных задач на смекалку и логику, выбор варианта домашнего задания по теме урока (провести эксперимент, описать наблюдаемое явление, составить план параграфа, вопросы, таблицу по содержанию, создать презентацию), поощрение личных достижений ученика в сравнении с уже имеющими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ические приемы мотив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Оратор»: за 1 минуту убеди своего собеседника в том, что изучение темы урока просто необходим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Автор»: если бы вы были автором учебника, как бы вы объяснили необходимость изучения этой т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Фантазёр» : назови 5 способов применения знаний, умений и навыков по теме урока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офи»: исходя из будущей профессии объясни, зачем нужно изучение этой т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ностика исходной 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анализировать ответ одноклас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сделать анализ своего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сравнить несколько способов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найти, исправить, объяснить ошибку в тексте,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500"/>
            </a:br>
            <a:br>
              <a:rPr sz="41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. 6 класс. Урок «Мхи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метные (образовательные): сформировать представление о существенных признаках мхов; сформировать умение определять принадлежность растений к отделу «Моховидные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предметные (деятельностные): сформировать умение ставить цель; научить выбирать способ решения поставленной задачи; научить сравнивать, анализировать, классифицировать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и корректировать свою деятельность, работать в группе.</a:t>
            </a:r>
            <a:br>
              <a:rPr sz="1600"/>
            </a:b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Мотивация к учебной дея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ученикам ознакомиться с текстом.</a:t>
            </a:r>
            <a:br>
              <a:rPr sz="18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роцесс 3"/>
          <p:cNvSpPr/>
          <p:nvPr/>
        </p:nvSpPr>
        <p:spPr>
          <a:xfrm>
            <a:off x="380880" y="2971800"/>
            <a:ext cx="7848720" cy="3352680"/>
          </a:xfrm>
          <a:prstGeom prst="flowChartProcess">
            <a:avLst/>
          </a:prstGeom>
          <a:solidFill>
            <a:srgbClr val="bbe0e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 глубокого ранения вместо ваты можно использовать многолетнее травянистое растение, обитающее на торфяных болотах и в заболоченных лес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сушенном виде это растение способно впитать воды в 20 раз больше, чем весит само, и превосходит этим вату в 4 раза. Как перевязочный материал его использовали еще в Англии еще в XI веке. Содержащийся в растении сфагнол оказывает ранозаживляющее и антисептическое действие. В военное время для перевязок использовали марлевые подушечки, набитые высушенным растением. Особенно большую службу оно сослужило партиза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это – мох сфагн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ждение информации, формулиров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ы уро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тобы правильно использовать…., необходимо знать не только их полезные свойства, но и уметь отличать от других…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ак мы узнаем …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Хотите ли вы научиться ….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старайтесь сегодня самостоятельно научиться ……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ткрыть необходимые для этого знания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ак вы думаете, чему будет посвящен  наш сегодняшний урок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ксация темы урока на доск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УАЛИЗАЦИЯ - перевод знаний, навыков и чувств в процессе обучения из скрытого, латентного, состояния в явное, действующее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уализация знаний - этап урока, на котором планируется воспроизведение учащимися знаний умений и навыков, необходимых для «открытия» нового знания. На этом этапе также осуществляется выход на задание, вызывающее познавательное затруд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уализация означает и психологическую подготовку ученика: сосредоточение внимания, осознание значимости предстоящей деятельности, стимулирование интереса к уроку (взаимосвязь с мотивацией). Для этого необходимо, чтобы обучающие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оспроизвели знания, умения и навыки, достаточные для построения нового способа 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активизировали соответствующие мыслительные операции, память,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попытались выполнить индивидуальное задание, требующее нового способа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зафиксировали возникшее затруд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ы и средства  акту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ив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ипа (без авторских выводов, оценок; с изложением фактов, цитатами из первоисточников, отражающими разные мн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ивные зад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текстам  (не «Расскажи..», а «Докажи…»; не «Назови…»,  а «Объясни…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ые, компетентностные задания на предметном материале (учебное проектирование; жизненные практико-ориентированные задач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полн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ивных за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мысли задание (что надо сделать?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нужную информацию (текст, рисуно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уй информацию в соответствии с заданием (найди причину, выдели главное, дай оценку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уй мысленно ответ (я считаю, что…, потому что, во-первых…, во-вторых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 полный ответ (расскажи) без наводящ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актуализации для подготовки к мыслительным операциям («мыслительная гимнастика»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“Диктант значений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: приём интерактивного обучения. Преподаватель диктует не слова, а их значения. Обучающиеся должны по значениям определить слова и напис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 Преподаватель в диктанте по удвоенным согласным дикт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цо, находящееся в переписке с кем-нибудь» (учащиеся пишут: «Корреспондент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: «Совокупность всех притоков реки, озера» (учащиеся пишут: «Бассейн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: «Система взглядов, воззрений на жизнь, природу и общество» (учащиеся пишут: «Мировоззрение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http://www.sch2000.ru/   - Центр системно-деятельностной педагогики «Школа 2000…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ites.google.com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te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onstruktoruroka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ome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Цифровой конструктор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festival.1september.ru/articles/subjects/1 -  Фестиваль педагогических идей «Открытый урок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 этап актуализации осуществляется в виде сочетания различных способов опроса (устный, письменный, фронтальный, индивидуальный и пр.), повторного разъяснения с помощью опорных сигналов, дидактических игр. Учащиеся воспроизводят известные им знания, осознают их, обобщают факты, связывают старые знания с новыми условиями, с новыми данными. В процессе актуализации или в результате ее создается проблемная ситуация и формулируется учебная пробл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типах уроков используют следующие методы и приёмы актуализации: беседа, письменная работа, конспектирование ответов, заполнение таблиц, повторение материала по учебнику, анализ схем и табл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актуализации знаний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ждающий диалог (стимулирующие реплики: что нам известно? Что нужно сделать? Как? С помощью чего? Кто правильней? Кто быстрей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ктуализация знаний и фиксация затруднения в пробном действ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м нашу работу с повторения тех знаний, которые смогут нам помоч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в группах выдается раздаточный материал (рисунки с изображениями улотрикса, спирогиры, мака самосейки, вероники дубравной или гербар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All Users\Документы\Мои рисунки\Образцы рисунков\вероника дубравная.jpg"/>
          <p:cNvPicPr/>
          <p:nvPr/>
        </p:nvPicPr>
        <p:blipFill>
          <a:blip r:embed="rId1"/>
          <a:stretch/>
        </p:blipFill>
        <p:spPr>
          <a:xfrm>
            <a:off x="6934320" y="3429000"/>
            <a:ext cx="1752480" cy="297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All Users\Документы\Мои рисунки\Образцы рисунков\мак самосейка.jpg"/>
          <p:cNvPicPr/>
          <p:nvPr/>
        </p:nvPicPr>
        <p:blipFill>
          <a:blip r:embed="rId2"/>
          <a:stretch/>
        </p:blipFill>
        <p:spPr>
          <a:xfrm>
            <a:off x="4724280" y="3505320"/>
            <a:ext cx="187668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All Users\Документы\Мои рисунки\Образцы рисунков\улотрикс 2.jpg"/>
          <p:cNvPicPr/>
          <p:nvPr/>
        </p:nvPicPr>
        <p:blipFill>
          <a:blip r:embed="rId3"/>
          <a:stretch/>
        </p:blipFill>
        <p:spPr>
          <a:xfrm>
            <a:off x="380880" y="3505320"/>
            <a:ext cx="1828800" cy="281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All Users\Документы\Мои рисунки\Образцы рисунков\спирогира 2.jpg"/>
          <p:cNvPicPr/>
          <p:nvPr/>
        </p:nvPicPr>
        <p:blipFill>
          <a:blip r:embed="rId4"/>
          <a:stretch/>
        </p:blipFill>
        <p:spPr>
          <a:xfrm>
            <a:off x="2514600" y="3505320"/>
            <a:ext cx="1828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создание условий для осознания педагогами особенностей современных приемов и форм достижения метапредметных результатов обучения, их использования в структуре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анализировать примеры использования современных приемов и форм развития познавательных универсальных учебных действий (УУД), их текущей оценки для достижения метапредметных результат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ценить качество и соответствие современным требованиям методических материалов для проведения уроков системно-деятельностной направлен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риентировать участников дискуссионной площадки на поиск, составление и разработку дидактических материалов для достижения метапредметных результатов при проектировании уроков системно-деятельностного харак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эти растения по внешнему строению.Разделите их на группы, обоснуйте решен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аботы учащиеся вспоминают и проговаривают основные особенности внешнего строения водорослей и цветковых растений. Одновременно с этим на доске учитель размещает соответствующие эталоны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процесс 2"/>
          <p:cNvSpPr/>
          <p:nvPr/>
        </p:nvSpPr>
        <p:spPr>
          <a:xfrm>
            <a:off x="457200" y="3505320"/>
            <a:ext cx="3429000" cy="2971800"/>
          </a:xfrm>
          <a:prstGeom prst="flowChartProcess">
            <a:avLst/>
          </a:prstGeom>
          <a:solidFill>
            <a:srgbClr val="bbe0e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Водоросли   - низшие растения, тело которых  не расчленено на органы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процесс 3"/>
          <p:cNvSpPr/>
          <p:nvPr/>
        </p:nvSpPr>
        <p:spPr>
          <a:xfrm>
            <a:off x="4800600" y="3505320"/>
            <a:ext cx="3962520" cy="2971800"/>
          </a:xfrm>
          <a:prstGeom prst="flowChartProcess">
            <a:avLst/>
          </a:prstGeom>
          <a:solidFill>
            <a:srgbClr val="bbe0e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У цветковых растений есть органы. Это – цветок, плод, корень, листья и стеб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сейчас я предложу вам выполнить новое задание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ы учащихся в группах раскладываются изображения ламинарии, фукуса, кукушкина льна и редьки дико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йдите, пожалуйста, среди предложенных растений те, которые относятся ко мх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ll Users\Документы\Мои рисунки\Образцы рисунков\ламинария 2.jpg"/>
          <p:cNvPicPr/>
          <p:nvPr/>
        </p:nvPicPr>
        <p:blipFill>
          <a:blip r:embed="rId1"/>
          <a:stretch/>
        </p:blipFill>
        <p:spPr>
          <a:xfrm>
            <a:off x="609480" y="3075120"/>
            <a:ext cx="1667160" cy="239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Documents and Settings\All Users\Документы\Мои рисунки\Образцы рисунков\бурые водоросли.jpg"/>
          <p:cNvPicPr/>
          <p:nvPr/>
        </p:nvPicPr>
        <p:blipFill>
          <a:blip r:embed="rId2"/>
          <a:stretch/>
        </p:blipFill>
        <p:spPr>
          <a:xfrm>
            <a:off x="2743200" y="2895480"/>
            <a:ext cx="1365120" cy="259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nts and Settings\All Users\Документы\Мои рисунки\Образцы рисунков\редька дикая 1.jpg"/>
          <p:cNvPicPr/>
          <p:nvPr/>
        </p:nvPicPr>
        <p:blipFill>
          <a:blip r:embed="rId3"/>
          <a:stretch/>
        </p:blipFill>
        <p:spPr>
          <a:xfrm>
            <a:off x="6553080" y="3048120"/>
            <a:ext cx="160020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1295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ыбрал, покажите изображение мха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поднимают изображение или гербарный экземпляр кукушкина льна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 уверены, что правы? Обоснуйте ваше решение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II. Выявление места и причины затруднения (урок «Мхи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адание вам предлагалось выполнить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точно ли имеющихся у вас  знаний, чтобы отличить …..? (Не достаточно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х же знаний вам не хватает? (Не знаем отличительных признаков ….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уйте, пожалуйста, цель нашей сегодняшней работы (Узнать отличительные признаки…..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строение проекта выхода из затрудн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достижения нашей цели необходимо разработать план действ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в группах работают над планом. Учитель направляет их деятельнос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те все растения. Что у них общего, чем отличаются?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V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еализация построенного проек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и экономии времени можно использовать заранее подготовленную таблицу с указанными в ней признаками, подходящими для сравнения.</a:t>
            </a:r>
            <a:br>
              <a:rPr sz="2000"/>
            </a:b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процесс 2"/>
          <p:cNvSpPr/>
          <p:nvPr/>
        </p:nvSpPr>
        <p:spPr>
          <a:xfrm>
            <a:off x="380880" y="3886200"/>
            <a:ext cx="8458200" cy="2514600"/>
          </a:xfrm>
          <a:prstGeom prst="flowChartProcess">
            <a:avLst/>
          </a:prstGeom>
          <a:solidFill>
            <a:srgbClr val="bbe0e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3645000"/>
          <a:ext cx="8610480" cy="2662200"/>
        </p:xfrm>
        <a:graphic>
          <a:graphicData uri="http://schemas.openxmlformats.org/drawingml/2006/table">
            <a:tbl>
              <a:tblPr/>
              <a:tblGrid>
                <a:gridCol w="1218960"/>
                <a:gridCol w="933480"/>
                <a:gridCol w="1076400"/>
                <a:gridCol w="1076400"/>
                <a:gridCol w="1076400"/>
                <a:gridCol w="1076040"/>
                <a:gridCol w="1076400"/>
                <a:gridCol w="107640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изнака у раст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зои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бочка со спор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шкин ле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инар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ька дик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заполняют таблицу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вы можете сформулировать отличительные признаки внешнего строения мхов? (Да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групп по очереди представляет свои результаты. Выводится правило, которое размещается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413000"/>
          <a:ext cx="8458200" cy="2647800"/>
        </p:xfrm>
        <a:graphic>
          <a:graphicData uri="http://schemas.openxmlformats.org/drawingml/2006/table">
            <a:tbl>
              <a:tblPr/>
              <a:tblGrid>
                <a:gridCol w="1057320"/>
                <a:gridCol w="1056960"/>
                <a:gridCol w="1057320"/>
                <a:gridCol w="1057320"/>
                <a:gridCol w="1057320"/>
                <a:gridCol w="1057320"/>
                <a:gridCol w="1057320"/>
                <a:gridCol w="105732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изнака у раст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зои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бочка со спор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шкин ле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инар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ька дик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личительные признаки мх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процесс 2"/>
          <p:cNvSpPr/>
          <p:nvPr/>
        </p:nvSpPr>
        <p:spPr>
          <a:xfrm>
            <a:off x="1371600" y="1523880"/>
            <a:ext cx="6629400" cy="2913120"/>
          </a:xfrm>
          <a:prstGeom prst="flowChartProcess">
            <a:avLst/>
          </a:prstGeom>
          <a:solidFill>
            <a:srgbClr val="bbe0e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Мхи имеют тело, расчлененное на отдельные органы. Это – стебель с лис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крепляются к почве при помощи ризои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меют коробочку со сп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3640" y="4724280"/>
            <a:ext cx="74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могли ли мы преодолеть, возникшие в начале затруднения? (Да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к можно проверить свои выводы? (Посмотреть в учебнике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400" y="428760"/>
            <a:ext cx="7143480" cy="13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3399"/>
                </a:solidFill>
                <a:latin typeface="Arial"/>
              </a:rPr>
              <a:t>Мировой океан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63320" y="3377880"/>
            <a:ext cx="721044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999"/>
                </a:solidFill>
                <a:latin typeface="Arial"/>
              </a:rPr>
              <a:t>Урок географии в 6 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999"/>
                </a:solidFill>
                <a:latin typeface="Arial"/>
              </a:rPr>
              <a:t>Составили: Попова Т.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999"/>
                </a:solidFill>
                <a:latin typeface="Arial"/>
              </a:rPr>
              <a:t>Плаксина Г.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999"/>
                </a:solidFill>
                <a:latin typeface="Arial"/>
              </a:rPr>
              <a:t>Ладошкина Е.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Рисунок17"/>
          <p:cNvPicPr/>
          <p:nvPr/>
        </p:nvPicPr>
        <p:blipFill>
          <a:blip r:embed="rId1"/>
          <a:stretch/>
        </p:blipFill>
        <p:spPr>
          <a:xfrm>
            <a:off x="395280" y="4265640"/>
            <a:ext cx="251136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Рисунок4"/>
          <p:cNvPicPr/>
          <p:nvPr/>
        </p:nvPicPr>
        <p:blipFill>
          <a:blip r:embed="rId2"/>
          <a:stretch/>
        </p:blipFill>
        <p:spPr>
          <a:xfrm>
            <a:off x="0" y="285840"/>
            <a:ext cx="16081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овое знание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характеристики оке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ное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все особенности Атлантического оке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ксация затрудн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не смогли выявить все особенности оке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а затруд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не знаем все ли особенности мы перечисл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план характеристики оке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ксация нового знания (этало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Г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лощ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Средняя глу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Максимальная глу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Части оке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Виды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частников дискуссионно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аправлению научно-методического сопровождения работы апробационных площадок Перм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Формирование и развитие познавательных универсальных учебных действий (УУД), их текущей оценки на уроках основной ступени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«Познавательные  универсальные учебные действи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найти примеры заданий для развития познавательных У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ценивать умение применять познавательные У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тразить требования к формированию и развитию познавательных УУД при подготовке ур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ценки метапредметных результатов предметного обучения на основе познавательных универсальных учебных действий рекомендуется использовать таблицы, фиксирующие успешность выполнения учащимися заданий, ориентированных на определенные УУД (табл.1,2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 1. Оценка метапредметных результатов предметного обучения на основе познавательных универсальных учебных действий*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Примечание. Условно обозначены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- поиск и выделение информации; 2 - самостоятельное формулирование познавательной цели; 3 - знаково-символические действия (включая моделирование); 4 - анализ объектов с целью выделения признаков; 5 – синтез; 6 - выбор оснований и критериев для сравнения; 7 - классификация и сериация объектов; 8 -  установление причинно-следственных связей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ая работа в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   разработать и апробировать учебные ситуа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ования, развития, оценивания познавательных универсальных учебных действий по осознанному выбору эффективных способов решения учебных задач путем оценки правильности их применения на уроках в 5-х кла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ания  познавательных универсальных учебных действий обучающихся по осознанному выбору эффективных способов решения учебных задач в рамках текущего и тематического контроля, промежуточной  аттестации мы предлагаем использов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ные текс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 описанием учебно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виде проблемной ситуации, вариантов ее решения и таблицы для пояснений к выбранным способ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Введение в биологию, 5 к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номарева И.Н. и др. – М: Вентана-Граф, 201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ный текст к теме «Химический состав кл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тки живых организмов содержат органические (горючие) и неорганические (негорючие) вещества (в том числе воду). Для определения химического состава клеток можно  провести несколько простых опытов. Если взвесить свежий лист капусты, а затем  его высушить и снова взвесить, то разница покажет количество воды в клетках этого листа (1). Раздавив семя подсолнечника между двумя листочками бумаги, увидим жирные пятна (2). Жиры – это органические вещества. Для обнаружения органического вещества крахмала используют раствор йода: его капля окрашивает срез клубня картофеля, разбавленную водой муку в синий цвет (3). Можно  поместить в пробирку кусочки растительных тканей (листьев, коры, веточек, корешков) и нагреть ее над пламенем спиртовки (4). Сначала из пробирки пойдет пар, потом дым, а на ее дне останется немного золы (несгоревших частиц). Если разрезать яблоко, то через некоторое время его срез окрасится в бурый, ржавый цвет. Эту окраску ему придают соединения железа с кислородом воздуха (5).  Гниение остатков живых организмов сопровождается неприятным запахом соединений серы, которая входит в состав белков - органических веществ клеток (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из описанных наиболее эффективные способы определения химического состава клетки, укажите соответствующие им циф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материал для работы найдите в учеб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териями оценивания осознанности выбора могут быть ум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делить в контрольном тексте эффективные способы решения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ргументировать собственный выбор (временные или ресурсные затраты, количество действий, безопасность) с опорой на содержание текста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делить из выбранных вариантов решения учебной задачи наиболее обоснованный (эффективный) и аргументировать сделанный 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905120"/>
          <a:ext cx="8229600" cy="486720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213372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(балл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мение выделить в контрольном тексте эффективные способы решения учебной зада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делены эффективные способы реш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й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а часть описанных в контрольном тексте эффективных способов решения учебной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ы все описанные в контрольном тексте эффективные способы решения учебной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457200"/>
          <a:ext cx="8915400" cy="6269040"/>
        </p:xfrm>
        <a:graphic>
          <a:graphicData uri="http://schemas.openxmlformats.org/drawingml/2006/table">
            <a:tbl>
              <a:tblPr/>
              <a:tblGrid>
                <a:gridCol w="2228760"/>
                <a:gridCol w="5848560"/>
                <a:gridCol w="83808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мение аргументировать собственный выбор решения учебной задачи  с опорой на содержание контрольного текст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аргументация собственного выбора с опорой на содержание  контрольного тек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ирована часть выбранных способов решения учебной задачи (временные или ресурсные затраты, количество действий, безопасност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ированы все выбранные способы решения учебной задачи (временные или ресурсные затраты, количество действий, безопасност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Умение выделить из выбранных вариантов решения учебной задачи наиболее обоснованный (эффективный) и аргументировать выбо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 максимум 9 баллов (от 7 баллов - превосходно, отличн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делен из выбранных вариантов решения учебной задачи (проблемы) наиболее обоснованный (эффективный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 из выбранных вариантов решения учебной задачи (проблемы) наиболее обоснованный (эффективный), но отсутствует  аргументация выбора (временные или ресурсные затраты, количество действий, безопасност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 из выбранных вариантов решения учебной задачи (проблемы) наиболее обоснованный (эффективный), приведена аргументация выбора (временные или ресурсные затраты, количество действий, безопасност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 и обоснован другой  (не описанный в контрольном тексте) вариант решения учебной задачи (проблемы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(отметка) хорошо: 4 - 6 баллов, достаточно (удовлетворительно) – 3 бал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 заполнения таблицы  «Выбор эффективного способа решения учебной задачи и его обосн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600200"/>
          <a:ext cx="8915400" cy="5499000"/>
        </p:xfrm>
        <a:graphic>
          <a:graphicData uri="http://schemas.openxmlformats.org/drawingml/2006/table">
            <a:tbl>
              <a:tblPr/>
              <a:tblGrid>
                <a:gridCol w="3200400"/>
                <a:gridCol w="571500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мение выделять в контрольном тексте (описание проблемы и варианты ее решения) эффективные способы решения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жи номера ответ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оответствующих эффективным способам решения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2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мение аргументировать собственный выбор с опорой на содержание текс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и аргументаци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количество действий, временные или ресурсные затраты) собственного выбора с опорой на содержание тек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быстрый и достаточно безопасны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особ с четырьмя основными действиями (подготовка пробирки, спиртовки, растительных образцов, нагревание), доказывающий содержание органических (горючих) и неорганических (негорючих) веществ (в том числе воды) в клетках раст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самый прос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два основных действия: подготовка семени подсолнечника и раздавливание его между двумя листочками бумаги), быстрый и безопасный способ, но доказывающий только содержание органических веществ (жиров) в клетках раст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прос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три основных действия: взвешивание свежего и высушенного листа капусты, арифметические расчеты) и безопасный способ, но долгий (несколько дней), доказывающий только содержание воды в клетках раст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533520"/>
          <a:ext cx="8229600" cy="609120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54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мение выделить из выбранных вариантов решения проблемы наиболее обоснованный (эффективный) и аргументировать выбор (количеством действий, временными или ресурсными затрат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и из выбранных вариант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шения проблемы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более обоснованный (эффективный), приведи аргументацию выбор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количеством действий, временными или ресурсными затрат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быстрый и достаточно безопасный спосо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четырьмя основными действиями (подготовка пробирки, спиртовки, растительных образцов, нагревание), доказывающий содержание органических (горючих) и неорганических (негорючих) веществ (в том числе воды) в клетках раст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и и обоснуй другой  (не описанный в тексте) вариант решения проблем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рное, есть вещества, меняющие окраску после взаимодействия с неорганическими веществами клеток или специальные приборы, показывающие наличие определенных веществ в каком-нибудь объекте. Надо посмотреть в Интерне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тельно, наличие соединений азота в растворах можно обнаружить по изменению окраски специальной бумажки-индикатора. Натрий постоянно выводится из организма с мочой и потом. Поэтому в жаркую погоду врачи рекомендуют есть больше солёного. Более 30 химических элементов (кальций, калий, железо, медь, магний, цинк) обнаружено в волосах человека. Анализы проводят с помощью прибора - плазменного спектрометра. Результаты анализа сравнивают со средней для здорового человека данного пола и возраста нормой химических элементов и при значительных отклонениях назначают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ttp://festival.1september.ru/articles/631127/ 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ный пример выполненной работы может быть оценен экспертами (учитель, отдельные обучающиеся, их пары, группы) на основе таблицы 1 по максимальным показателям (баллам): 2; 2; 2; 3 – итого 9 баллов (отличн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Федеральный государственный образовательный стандарт основного общего образования (приказ Министерства образования и науки Российской Федерации от 17  декабря  2010 г. № 189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мерная основная образовательная программа образовательного учреждения. Основная школа / [сост. Е. С. Савинов]. - М.: Просвещение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Формирование УУД в основной школе: от действия к мысли. Система заданий / Асмолов А.Г. и др. М. 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бочая программа к учебнику А.А. Плешакова, Э.Л. Введенского. «Биология. Введение в биологию». 5 класс. Линия «Ракурс»/ авт.-сост.: С.Н. Новикова, Н.И. Романова. — М.: ООО «Русское слово — учебник»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ахрушев А.А., Раутиан А.С. Рабочая программа «Биология», 5–9 классы. – М.: Изд-во «Баласс»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крипкина Ю.В. Метапредметный подход в новых образовательных стандартах: вопросы реализации. // Интернет-журнал "Эйдос". - 2011. - №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Давыдов В.В. Теория развивающего обучения. М.: ИНТЕРО, 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Реализация деятельностного метода обучения на уроках по разным учебным предметам / Под редакцией Л.Г. Петерсон. – М.:УМЦ «Школа 2000…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Дусавицкий А.К., Кондратюк Е.М., Толмачева И.Н., Шилкунова З.И. Урок в развивающем обучении: Книга для учителя. – М.:ВИТА-ПРЕСС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Матвеева Е.И., Патрикеева И.Е. Деятельностный подход к обучению в начальной школе: урок литературного чтения (из опыта работы) //Серия «Новые образовательные стандарты». – М.:ВИТА-ПРЕСС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ОС устанавливает требования к результатам освоения обучающимися основной образовательной программы основного общего образ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личностны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ключающим готовность и способность обучающихся к саморазвитию и личностному самоопределению, сформированность их мотивации к обучению и целенаправленной 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метапредмет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ключающим освоенные обучающими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предметные понятия и универсальные учебные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гулятивные, познавательные, коммуника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пособность их использования в учебной, познавательной и социальной прак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едметны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ключающи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военные обучающимися в ходе изучения учебного предмета умения, специфические для данной предметной области, виды деятельности по получению нового знания в рамках учебного предм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го преобразованию и примен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 результаты обучения и структура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320" y="838080"/>
          <a:ext cx="9067680" cy="6891480"/>
        </p:xfrm>
        <a:graphic>
          <a:graphicData uri="http://schemas.openxmlformats.org/drawingml/2006/table">
            <a:tbl>
              <a:tblPr/>
              <a:tblGrid>
                <a:gridCol w="2895480"/>
                <a:gridCol w="3048120"/>
                <a:gridCol w="312408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 О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овлено законода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ая основная образовательная программа (возможные примеры реализ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даментальное ядро содерж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озможные примеры реализ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ные обучающимис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предметные понятия и универсальные учебные действ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гулятивные, познавательные, коммуникативные)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их использо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учебной, познавательной и социальной практике,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сть планирования и осуществления учебной деятельности и организации учебного сотрудничеств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едагогами и сверстниками, построение индивидуальной образовательной траектории;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сознанно выбирать  наиболее эффективные способы решения учебных и познавательных задач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ые УУД: общеучебные, включая знаково-символические;    логические,  действия постановки и решения проб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научит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м реализации проектно-исследователь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наблюдение и эксперимент под руководством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расширенный поиск информации с использованием ресурсов библиотек и Интерне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вать и преобразовывать модели и схемы для решения задач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получит возможность научить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м рефлексивного чт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ить проблему, аргументировать её актуа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ые УУД: общеучебные, включая знаково-символические;    логические,  действия постановки и решения проб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учебны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е выделение и формулирование познавательной це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  поиск и выделение необходимой информации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во-символическ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умение структурировать знания; строить речевое высказывание в устной и письменной форме;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наиболее эффективных способов решения зад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действ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анализ объектов ; выбор критериев для сравнения, сериации, классификации объектов; выведение следствий;  установление причинно-следственных связ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1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учения школьных предметов описаны в ря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ых рабочи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ставленных авторами современных учебно-методических комплектов [4]. Например, такими результатами изучения курса «Биология» в 5-6 классах являются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[5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нализировать, сравнивать, классифицировать и обобщать факты и яв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являть причины и следствия простых яв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уществлять сравнение, сериацию и классификацию, самостоятельно выбирая основания и критерии для указанных логических опер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роить классификацию на основе дихотомического деления (на основе отриц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роить логическое рассуждение, включающее установление причинно-следственных свя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вать схематические модели с выделением существенных характеристик объек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ставлять тезисы, различные виды планов (простых, сложных и т.п.); - преобразовывать информацию  из одного вида в другой (таблицу в текст и п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читывать все уровни текстовой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меть определять возможные источники необходимых сведений, производить поиск информации, анализировать и оценивать ее достовер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временных стандартизированных письменных контрольных работах, примером которых являются контрольно-измерительные материалы государственной итоговой аттестации, уже встречаются задания на проверку умений применять разнообразные познавательные У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оизведение и применение знаний по биологи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ком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итуации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овы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вень) требует овладения умения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знавать, сравнивать, классифицировать, объяснять и описы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ипичные биологические объекты, процессы и явления (познавательные УУД). Например, задания на понимание признаков животных, их роли в природе, жизни человека, умения распознавать и описывать по рисункам (фотографиям) органы и системы органов животных, представителей отдельных типов и классов, домашних животных и опасных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нение знаний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ен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туаци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ышен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вень) предусматривает оперирование учащимися такими учебными умениями, ка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иологических процессов и явлени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, анализ, обобщение, формулирование вывод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пример, задание на установление связи между объектами и процессами, указанными в столбцах приведённой таблицы проверяет познавательные умения определять структуру объекта, выделять значимые функциональные связи и отношения между частями цел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нение знаний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в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туаци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ровень) предполагает оперирование умениям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ть приобретенные знания в практическ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атизировать и интегрировать знания, оценивать и прогнозиров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цессы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ать практические и творческие 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ulov-AA</cp:lastModifiedBy>
  <dcterms:modified xsi:type="dcterms:W3CDTF">2015-08-31T05:12:3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